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24.xml"/><Relationship Id="rId7" Type="http://schemas.openxmlformats.org/officeDocument/2006/relationships/slide" Target="slide24.xml"/><Relationship Id="rId8" Type="http://schemas.openxmlformats.org/officeDocument/2006/relationships/slide" Target="slide24.xml"/><Relationship Id="rId9" Type="http://schemas.openxmlformats.org/officeDocument/2006/relationships/slide" Target="slide42.xml"/><Relationship Id="rId10" Type="http://schemas.openxmlformats.org/officeDocument/2006/relationships/slide" Target="slide42.xml"/><Relationship Id="rId11" Type="http://schemas.openxmlformats.org/officeDocument/2006/relationships/slide" Target="slide42.xml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bsky.com/" TargetMode="External"/><Relationship Id="rId2" Type="http://schemas.openxmlformats.org/officeDocument/2006/relationships/hyperlink" Target="http://www.bbsky.com/" TargetMode="External"/><Relationship Id="rId3" Type="http://schemas.openxmlformats.org/officeDocument/2006/relationships/hyperlink" Target="http://www.bbsky.com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  离线浏览与文件传输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4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6.1  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离线浏览——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WebZIP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4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4" action="ppaction://hlinksldjump"/>
              </a:rPr>
              <a:t>6.2  离线浏览——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5" action="ppaction://hlinksldjump"/>
              </a:rPr>
              <a:t>Offline Explore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4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6.3  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7" action="ppaction://hlinksldjump"/>
              </a:rPr>
              <a:t>离线浏览大师——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Teleport Pr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4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.4  FTP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工具——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CuteFTP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24280" y="22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离线浏览5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814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518148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llowed Link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6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离线浏览—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ffline Explorer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1" action="ppaction://hlinksldjump"/>
              </a:rPr>
              <a:t>6.2.1  界面介绍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6.2.2  下载网站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4" action="ppaction://hlinksldjump"/>
              </a:rPr>
              <a:t>6.2.3  离线浏览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5" action="ppaction://hlinksldjump"/>
              </a:rPr>
              <a:t>6.2.4  高级功能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首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6.2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介绍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5334120"/>
            <a:ext cx="449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7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ffline Explor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57600" y="2319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离线浏览offline6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76920" cy="353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6.2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网站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3468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下载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1"/>
              </a:rPr>
              <a:t>www.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2"/>
              </a:rPr>
              <a:t>bbsky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3"/>
              </a:rPr>
              <a:t>.c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网站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新建”按钮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项目属性”对话框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“项目名称”、“地址”、“文件修改检查”输入需要的选项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左边的“分类”框有“项目”、“文件过滤器”、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滤器”和“高级”四个项目属性标签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滤中，需设定服务器和目录两项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确定”按钮回到主界面，单击工具栏的“下载”按钮，开始下载。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67040" y="2219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离线浏览offline2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286240" cy="375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5181480"/>
            <a:ext cx="441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8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属性”对话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48040" y="2276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离线浏览offline3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281560" cy="374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3880" y="5334120"/>
            <a:ext cx="6248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9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属性”对话框——文件过滤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09880" y="22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离线浏览offline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14800" cy="35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5181480"/>
            <a:ext cx="6096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0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属性”对话框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滤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48040" y="2276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离线浏览offline5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900680" cy="347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525780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1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属性”对话框——文件过滤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.2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离线浏览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5754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主界面中下载完成的项目上右键单击，选择快捷菜单中的选择“浏览”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2757600" y="2319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离线浏览offline7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029200" cy="307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57400" y="556272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离线浏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86040" y="2138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离线浏览offline8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14960" cy="376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5257800"/>
            <a:ext cx="5181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浏览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离线浏览—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ZIP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1" action="ppaction://hlinksldjump"/>
              </a:rPr>
              <a:t>6.1.1  界面简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2" action="ppaction://hlinksldjump"/>
              </a:rPr>
              <a:t>6.1.2  应用实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3" action="ppaction://hlinksldjump"/>
              </a:rPr>
              <a:t>6.1.3  选项设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首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6.2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高级功能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1946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代理服务器设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919240" y="2233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离线浏览offline9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724280" cy="341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43200" y="5486400"/>
            <a:ext cx="3352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194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计划下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2795760" y="2171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离线浏览offline10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76640" cy="352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5562720"/>
            <a:ext cx="533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下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194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模板和目录管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286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离线浏览offline11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343400" cy="383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5400" y="1600200"/>
            <a:ext cx="546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改变下载站点的存放路径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的站点默认存放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:\downlo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目录下，如果需要改变默认目录可以在“选项”对话框中选择“目录”标签，然后重新设置一个存放路径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6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离线浏览大师—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1" action="ppaction://hlinksldjump"/>
              </a:rPr>
              <a:t>6.3.1  创建下载工程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3" action="ppaction://hlinksldjump"/>
              </a:rPr>
              <a:t>6.3.2  开始下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4" action="ppaction://hlinksldjump"/>
              </a:rPr>
              <a:t>6.3.3  离线浏览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5" action="ppaction://hlinksldjump"/>
              </a:rPr>
              <a:t>6.3.4  下载参数设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6" action="ppaction://hlinksldjump"/>
              </a:rPr>
              <a:t>6.3.5  计划下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首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6.3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下载工程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6.3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开始下载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99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开始菜单中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文件菜单中的“新建项目向导”命令启动单击下一步下一步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18~6-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2995560" y="2619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离线浏览teleport1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5057640" cy="2597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89120" y="3200400"/>
            <a:ext cx="91188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7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792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离线浏览teleport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524480" cy="3189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495288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项目向导之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792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离线浏览teleport3-1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4800600" cy="3384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0" y="4952880"/>
            <a:ext cx="441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起始网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792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离线浏览teleport3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905360" cy="3458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14600" y="487692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下载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792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离线浏览teleport4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29040" cy="340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28800" y="495288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完成设置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6.1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简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3176640" y="2381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离线浏览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410440" cy="406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556272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ZIP 4.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95640" y="2576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离线浏览teleport4-1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209920" cy="3008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52480" y="4800600"/>
            <a:ext cx="533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文件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6.3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开始下载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94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工具栏上的“开始”按钮开始下载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2790720" y="2509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离线浏览teleport5-1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238720" cy="2703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5257800"/>
            <a:ext cx="533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完成后的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.3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离线浏览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完毕后，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 Pr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左边的窗口里右键单击工程名称，在弹出的快捷菜单中选择“打开”命令，即可启动浏览器进行离线浏览。在右边的窗口中双击网页也可以达到同样的目的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.3.4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下载参数设置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940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“项目”菜单下的“项目属性”命令，其中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选项卡。最为常用的是“摘要”和“取回文件”选项卡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3209760" y="2352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离线浏览teleport9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4095720" cy="3237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885280" y="2514600"/>
            <a:ext cx="1277640" cy="337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内容对话框—摘要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0400" y="2338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离线浏览teleport10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572000" cy="363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62320" y="5257800"/>
            <a:ext cx="4190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5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回文件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33800" y="2786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离线浏览teleport11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72120" cy="2311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62320" y="4495680"/>
            <a:ext cx="441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文件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.3.5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计划下载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40736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文件”菜单中的“连线”命令，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连线”对话框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“断开连接”选项栏内选中“项目完成或停止的时候断开连接”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对要下载的站点建立一个或多个工程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项目”菜单下的“计划”命令，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”窗口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”窗口“编辑”菜单中的“添加项目”命令，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项目计划”对话框之“项目”选项卡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浏览”按钮，在“打开”对话框中选择第三步建立的某个工程文件。如需要新建工程，可以单击“新建”按钮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计划”选项卡，进行下载时间的设置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关闭“项目计划”对话框后，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”窗口中就添加了新的下载计划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”窗口中“文件”菜单下的“启用计划”命令，则下载计划生效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38280" y="495288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7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线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67080" y="2405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离线浏览teleport1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1911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671920" y="2671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离线浏览teleport1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1720" cy="218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33720" y="4495680"/>
            <a:ext cx="472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8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ort Pr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”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.1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应用实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“开始”菜单中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ebZ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用户拥有的上网方式连接上网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使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 Explor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浏览器搜索需要下载的网站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将网址复制到剪切板上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将复制的网址粘贴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eb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文本框中，然后单击“下载”按钮，如下图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33720" y="2543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离线浏览teleport14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02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47920" y="4952880"/>
            <a:ext cx="640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9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计划”对话框之“项目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33720" y="2543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离线浏览teleport15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19560" cy="294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19320" y="5105520"/>
            <a:ext cx="662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0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计划”对话框之“计划”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6.4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工具—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CuteFTP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1" action="ppaction://hlinksldjump"/>
              </a:rPr>
              <a:t>6.4.1  界面介绍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2" action="ppaction://hlinksldjump"/>
              </a:rPr>
              <a:t>6.4.2  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宋体"/>
                <a:ea typeface="宋体"/>
                <a:hlinkClick r:id="rId3" action="ppaction://hlinksldjump"/>
              </a:rPr>
              <a:t>应用实例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首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6.4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介绍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194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分为四个主要部分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1947960" y="2119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553080" cy="327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09680" y="5562720"/>
            <a:ext cx="4267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uteFT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194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菜单和工具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对使用者显示的信息区，由这里可了解到该站信息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日志窗格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窗格用于显示日志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本地窗格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本地计算机的硬盘中要上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ploa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或下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ownloa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所在目录及相关文件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远程窗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的内容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等待队列窗格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看文件传输的进程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676520" y="1676520"/>
          <a:ext cx="5638680" cy="41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63868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600200" y="914400"/>
            <a:ext cx="579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-1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uteFT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常用的工具按钮及其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143000" y="1981080"/>
          <a:ext cx="678168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78168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.4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应用实例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连接站点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已有站点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工具栏上的站点按钮，开启站点管理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P Site Manag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站点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“新增”，且在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边站点框中填写新增站点的名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机地址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用户名称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密码、登录类型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各项输入正确后，单击“连接”即可连入服务器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62160" y="2152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文件传输2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53040" cy="3595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09680" y="5029200"/>
            <a:ext cx="4876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B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00240" y="2176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文件传输3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72160" cy="3803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81080" y="525780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窗口显示的连接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38600" y="2190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离线浏览2-1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62400" cy="368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8280" y="5105520"/>
            <a:ext cx="449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新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50480" y="1401840"/>
            <a:ext cx="7194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下载与上传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上传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远程服务器，在本地硬盘选取一个或多个要上传的文件，在远程区域中进入欲将文件送至的目录，单击工具栏上的上传图标，文件便开始上传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下载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远程服务器，在本地窗格中选择要下载文件存放的目录，在远程窗格中双击要下载的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下载成功后，在日志窗格显示“已成功接收…”的文字。在本地窗格中显示下载文件名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61760" y="837720"/>
            <a:ext cx="7194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文件传输4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38760" cy="3191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86000" y="510552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其他功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录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文件传输队列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制定传输计划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38080" y="12193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ff"/>
                </a:solidFill>
                <a:latin typeface="Monotype Corsiva"/>
                <a:ea typeface="宋体"/>
              </a:rPr>
              <a:t>Thank you very much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80080" y="2895480"/>
            <a:ext cx="3061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本章到此结束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谢谢您的光临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endshow"/>
          </p:cNvPr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结束放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38600" y="2124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离线浏览6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10440" cy="4073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518148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下载报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38600" y="2124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离线浏览7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4934160" cy="371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525780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Z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离线浏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6400800"/>
            <a:ext cx="1218960" cy="337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Times New Roman"/>
                <a:ea typeface="隶书"/>
              </a:rPr>
              <a:t>返回本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6.1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选项设置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07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Typ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提供对下载文件类型的设置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llowed Link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根据页面所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置、下载层次下载问题文件选择性地页面的选项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 Filte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根据关键字进行过滤，有选择性地下载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k Convert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设置下载文件的链接属性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ssword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某些网站需要提供用户名和密码才能进行下载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hedu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：用于指定下载计划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 ：显示所有设置选项的综合报告表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38600" y="2185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离线浏览4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10080" cy="388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7400" y="51814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-5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Typ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3:54:31Z</dcterms:modified>
  <cp:revision>92</cp:revision>
  <dc:subject/>
  <dc:title>Module 7: Designing a Multiple Domain Structure</dc:title>
</cp:coreProperties>
</file>